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4E8-7159-4B11-B2DB-9D30FE28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C94E-BF9F-4F05-B176-C62190C2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0812-A146-40C2-9700-C74BB5B8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1DB-CF3E-4844-96EB-43BF1EF3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D352-02C4-453A-BA69-D79626CB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40F-F0C5-4D6E-AEC7-C56481C5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E9C-3BD3-43E0-8ADB-72FD7EF1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A1E8-796A-478A-919A-18CAF913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AF7-031F-4FC9-A111-A86374CD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7710-6BFA-4773-86FA-B3D3C877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A78-6092-4098-AE36-D41B6AF3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71C0-1A33-4493-9014-43F3E8DF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665D-F29F-46A1-A016-B6D991E72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Resolutsioon predikaatarvuts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ldisemal juhul töötab meetod valemitega, mis on universaalsel konjuktiivsel normaalkujul, s.t. kujul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literaalide disjunktsioonide konjuktsioon. Sellise kuju saavutamiseks tuleb valem viia prenekskujule ja siis skolemiseerida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meetodi aluseks on jällegi kaks reeglit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Resolutsioonireegel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s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mgu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A’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a eeldame, et eeldusklauslid ei oma ühiseid muutuj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987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388620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Faktoriseerimisreegli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s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mgu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A’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241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4190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meetod püüab etteantud klauslitest tuletada tühja klauslit ehk siis saada vastuolu. Kui sellist tuletust ei leidu, siis peaks etteantud klauslite hulk olema kehtestata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oreem.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uslite hulk on kehtestatav parajasti siis, kui temast ei saa tuletada tühj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usl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“tasemete küllastamine”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antud klauslite hulk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lgu S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S,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Kui S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aldab tühja klauslit, lõpeta vastusega “vastuolulin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Olgu S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 +1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lga S</a:t>
            </a:r>
            <a:r>
              <a:rPr b="0" lang="et-EE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õigi resolventide hul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Kui S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 +1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õpeta vastusega “kehtestatav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Vastasel korral omist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 ning pöördu tagasi sammu 2 juur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selge, et nii see algoritm kui iga teine õiglane resolutsioonialgoritm (s.t. algoritm, mis ei ignoreeri lõpmatult kaua ühtki paari tekitatud klausleid) säilitab resolutsiooniarvutuse korrekts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leks aga, et saavutada mõistlikku efektiivsust, tuleb baasalgoritmi optimiseer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meetodit saab rakendada ka lahenduste otsimisek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teks otsime vastust küsimuse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a selline t, et teoreem kehtiks t jaoks”. Siis tuleb meetodit veidi modifitseerida: lasta tööl peatuda, kui on tuletatud kas tühi klausel või ainult lahendusliteraale sisaldav klause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masel juhul on tuletatud lahendusliteraali argument otsitavaks lahenduseks. Kui küsimusel pole ühest vastust, siis tuletab meetod klausli, mis sisaldab mitut erinevat mitteunifitseeritavat lahendusliteraa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0:18:16Z</dcterms:created>
  <dc:creator>Tiina Zingel</dc:creator>
  <dc:description/>
  <dc:language>en-US</dc:language>
  <cp:lastModifiedBy>Tiina Zingel</cp:lastModifiedBy>
  <dcterms:modified xsi:type="dcterms:W3CDTF">2006-04-24T10:28:53Z</dcterms:modified>
  <cp:revision>2</cp:revision>
  <dc:subject/>
  <dc:title>8. Resolutsioon predikaatarvutses.</dc:title>
</cp:coreProperties>
</file>